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2286000" cy="1301760"/>
          </a:xfrm>
          <a:prstGeom prst="rect">
            <a:avLst/>
          </a:prstGeom>
          <a:ln w="0">
            <a:noFill/>
          </a:ln>
        </p:spPr>
      </p:pic>
      <p:sp>
        <p:nvSpPr>
          <p:cNvPr id="2" name="Line 4"/>
          <p:cNvSpPr/>
          <p:nvPr/>
        </p:nvSpPr>
        <p:spPr>
          <a:xfrm>
            <a:off x="762120" y="12193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DAKOTA"/>
          <p:cNvPicPr/>
          <p:nvPr/>
        </p:nvPicPr>
        <p:blipFill>
          <a:blip r:embed="rId4"/>
          <a:stretch/>
        </p:blipFill>
        <p:spPr>
          <a:xfrm>
            <a:off x="8132760" y="0"/>
            <a:ext cx="1011240" cy="9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1257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AKOTA + Application Parallelism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GOAL: Learn how to manage DAKOTA parallelism on clusters, with applications running in serial or parallel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stand most common use cases for running DAKOTA (serial or parallel) with application (serial or parall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relevant approaches, input decks, and scri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s in “job tiling” on clusters and current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cuss potential improvements to job tiling by having DAKOTA manage resource lists, what els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: “Parallel Computing” in DAKOTA User’s Manual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kota/examples/parallelism/Case*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959840" y="6283440"/>
            <a:ext cx="52243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ndia is a multiprogram laboratory operated by Sandia Corporation, a Lockheed Martin Company,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the United States Department of Energy’s National Nuclear Security Administration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nder contract DE-AC04-94AL85000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NNSAlogo041001"/>
          <p:cNvPicPr/>
          <p:nvPr/>
        </p:nvPicPr>
        <p:blipFill>
          <a:blip r:embed="rId3"/>
          <a:stretch/>
        </p:blipFill>
        <p:spPr>
          <a:xfrm>
            <a:off x="228600" y="6343560"/>
            <a:ext cx="914400" cy="333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DAKOTA"/>
          <p:cNvPicPr/>
          <p:nvPr/>
        </p:nvPicPr>
        <p:blipFill>
          <a:blip r:embed="rId4"/>
          <a:stretch/>
        </p:blipFill>
        <p:spPr>
          <a:xfrm>
            <a:off x="8132760" y="0"/>
            <a:ext cx="1011240" cy="9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ase 3 Mechanics: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OpenMPI or SLURM relative node-based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DAKOTA, specify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_evaluation_static_schedu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synchronous evaluation_concurrency =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before (guarantees completed evaluation will be replaced with one congruent modulo the eval concurrenc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driver script, perform integer arithmetic to launch the job on the right relative starting node.  For example, want job 3 to start on processor 17 and run on 17—24.  When job 3 completes want job 7 to replace and run on the same processo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ith OpenMPI 1.3.3 or newer, or SLURM sru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ase 3 Mechanics: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OSC mpiexec/M*PICH 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exec –server (daemon) mode added 6 years ago under SNL contract to Wyckoff (v0.80 or new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works with MPICH, MVAPICH (not Open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 flow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and background an mpiexec daem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iexec –server 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will serve sets of processors to reques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DAKOTA in serial with appropriate concurr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analysis script, run the application with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piexec –n 8 a.ou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will contact the daemon for an allocation of resources on which to run and return them when the application ex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behavi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hould be possi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run (SLURM) for M*PICH applications and orted for OpenMPI v1.3 or greater (mostly untested or unfruitful so fa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ase 3 Mechanics: Machine File Management-based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job starts, parse available resource list (e.g., $SLURM_NODELIST or $PBS_NODEFILE) into a single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 the resources into S files (applicNodeFile.*), each containing N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evaluation, lock a nodefile, run the application using the nodefile, free the node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variations possible, including specializations where the application size N either divides the number of processors per node or is a multiple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16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nly works when machinefiles are respected, e.g., OpenMPI &lt; 1.3 with tight torque integration ignores machinefi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tatus of Case 3 Job Tiling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(on SNL Clusters)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447920"/>
          <a:ext cx="7772400" cy="4620960"/>
        </p:xfrm>
        <a:graphic>
          <a:graphicData uri="http://schemas.openxmlformats.org/drawingml/2006/table">
            <a:tbl>
              <a:tblPr/>
              <a:tblGrid>
                <a:gridCol w="1219320"/>
                <a:gridCol w="3276360"/>
                <a:gridCol w="3276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uses MPICH or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AP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uses OpenM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WCC, TBI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 DAK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piexec –server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led with d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piexec –n 8 a.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known solution (due to tight integration of OpenMPI and torque); unless application uses OpenMPI 1.3 or ne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run -n 8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nodelist=./machines a.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lative node is also known to work)  SLURM supports mpiexec –server like behavior, but unt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piexec –n 8 +$REL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13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piexec -n 8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–machinefile ./machine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OpenMPI 1.3 or new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Development Plan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re example scripts.  Consider framework script, where the user just provides their script to be called from the DAKOTA scrip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KOTA 5.0 includes capability for creating working directories automatically from template directories, but not managing parallel schedul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 machine files for users in tiling case (or make certain mpiexec, srun, or orted approaches will work on all clusters of interest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how to do application tiling on each clus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suggestions/issue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Parallelism Discussion Scope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cipally discuss DAKOTA and evaluation level parallelism (algorithmic coarse-grained parallelism) from a practical perspective to better help us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an exter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riv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a fork interfa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 driver scrip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to laun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eva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atches until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jobs comple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Not inten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a discussion of all of DAKOTA’s parallel partitioning capability (concurrent iterators, analyses); also won’t address edge cases like Redst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518148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PI vs. Local Parallelism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How/Where Evaluation Script is Called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Extremely common source of user confus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fference between running DAKOTA with MPI and performing asynchronous local eval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KOTA run in serial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ynchronou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aluation_concurrency = 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KOTA run in parallel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pirun –np 4 dakota foo.i</a:t>
            </a:r>
            <a:br>
              <a:rPr sz="1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 asynchronou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: DAKOTA run in parallel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pirun –np 4 dakota foo.i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ynchronou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aluation_concurrency =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Enhancement: manage workdirs and nodefiles for us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181480" y="2286000"/>
            <a:ext cx="2430720" cy="367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375680" y="2209680"/>
            <a:ext cx="1768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row denotes forking user’s evaluation script to run the application (potentially in serial or parall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User’s Manual: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pplication Parallelism Use Case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erhaps surprising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ses 1 and 4 are the predominant modes utilized (however 4 can break down for optimization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3: simultaneous parallel application evaluations within allocation; multiple scenarios available (depending on MPI for app) and </a:t>
            </a: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ncreasingly in dem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will discuss la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61048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ase 1: DAKOTA Parallel,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M Simultaneous Serial App Run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would you specify the start of the DAKOTA job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mpiexec –n 4 dakota foo.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would you specify evaluation concurrency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ee Case 1 files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one specifi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ven a cluster with 6 nodes and 4 processors per node, how would you run 1 DAKOTA instance per node, each launching 4 serial application run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mpiexec –n 6 –pernode dakota foo.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evaluation_concurrency = 4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 gotchas (modules, </a:t>
            </a: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pplication must truly be serial (not call MPI_Init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user confusion over dedicated master vs. static scheduling w/ M-1 or M jobs, respectively):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nnot use a code compiled with MPI as will likely conflict with resources dedicated to DAKO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1240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ase 4: DAKOTA Serial,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ubmit N Processor Jobs to Queue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a: run DAKOTA on a login node (fork essential) and in the analysis driver, include a call to qsub to run a parallel analysis on N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would you execute DAKOTA?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serial on a login node, create and execute a qsub script in the analysis_d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non-feedback algorithms (e.g., LHS), how would you manage evaluation concurrency and waiting on completed evaluations?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turn a dummy results.out to dako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feedback algorithms (e.g., optimization)? (see FM.bat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bably wait with a sleep/check loop until job comple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tchas (queuing time, interactive session unavailab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ase 2: DAKOTA Serial,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ingle N Processor Job at a Time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est N processors from the resource mana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KOTA runs in serial, want to launch one application evaluation at a time using all N available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do we launch the application for each evaluation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piexec –n N a.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issue: application needs to be run with correct modules (compilers, MPI) loaded and they are different from DAKOTA; how to resol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6"/>
          <p:cNvSpPr/>
          <p:nvPr/>
        </p:nvSpPr>
        <p:spPr>
          <a:xfrm>
            <a:off x="685800" y="4648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171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2120" y="4724280"/>
            <a:ext cx="815328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put in the driver scrip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(source not needed on TLCC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urce /opt/modules/default/init/bash # (or csh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ule switch mpi mpi/mvapich-0.9.8_ofed_intel-10.1-f015-c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ase 3: DAKOTA Serial,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ile N Processor Job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67053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an allocation of M = S*N processors, schedule S simultaneous job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32 reserved processors, S=4 simultaneous N=8 processor application ru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n application run completes, need to schedule another job on the freed block of processors (avoid oversubscribing any CPU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approaches: OpenMPI or SLURM relative node, Wyckoff’s (OSC) mpiexec –server (for M*PICH), management of machine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possible workarounds for special cases, e.g., TLCC 16ppn, can easily schedule 4, 8, or 16 CPU application runs and tie to specific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42" descr=""/>
          <p:cNvPicPr/>
          <p:nvPr/>
        </p:nvPicPr>
        <p:blipFill>
          <a:blip r:embed="rId1"/>
          <a:stretch/>
        </p:blipFill>
        <p:spPr>
          <a:xfrm>
            <a:off x="6885000" y="2347920"/>
            <a:ext cx="19540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Case 3 Common Characteristics</a:t>
            </a:r>
            <a:endParaRPr b="1" lang="en-US" sz="28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: 32 reserved processors, S=4 simultaneous N=8 processor application ru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gnore implementation details for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would you achieve this in terms of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dakota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erial) dakota foo.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call: running DAKOTA in parallel and forking a parallel application is unsupported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ynchronous evaluation_concurrency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unching application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piexec –n 8 a.out (with details ahea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6885000" y="2347920"/>
            <a:ext cx="19540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jbohnh</cp:lastModifiedBy>
  <dcterms:modified xsi:type="dcterms:W3CDTF">2009-12-23T16:16:53Z</dcterms:modified>
  <cp:revision>97</cp:revision>
  <dc:subject/>
  <dc:title>Main Title 32pt</dc:title>
</cp:coreProperties>
</file>