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694863" cy="7466013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slide comments provide talking points and details about exampl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5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Leq and Geq elements can be used to bound constra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7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1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6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explicit transformation from MINLP0 -&gt; UMINLP0 uses a constraint penalty of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8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10a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9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PL command syntax (using the –AMPL flag) is used within the AMPL modeling t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–help-solvers-xml is provided to assist the automatic integration of optimizers into GUI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Coliny naming convention for solvers is &lt;package&gt;:&lt;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49200" y="703440"/>
            <a:ext cx="4510080" cy="3473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3640" y="4443480"/>
            <a:ext cx="5100840" cy="42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IN example2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LP0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al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 code application: Python script example_f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MINLP0 solver: colin: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imple mixed-integer local search method that acts like a pattern search in the continuous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point at (10,10,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e when the solver gets below 1e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problem is given a default name, and solvers use the problem with that default name unless specified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 following syntax is used for mixed-integer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(4: 1 0 1 1) i(2: -1 9) r(3: -1.0 2.0 1.33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66200" y="309600"/>
            <a:ext cx="1371600" cy="930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01323A78-42A0-477B-AFE2-763F71E67F0C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2960" y="1098720"/>
            <a:ext cx="700884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liny Command Line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 (wehart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John Siirola (jdsiiro@sandia.gov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209000" y="9907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ls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(3: 10.1 10.1 10.1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InitialPoin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accuracy"&gt;1e-3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Execut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ounds and Labeled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_1 x_2 x_3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Label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1" value="9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label="x_2" value="5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xed-Integer Variables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5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ntegerVars num="4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inary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MO_U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olver type="colin:rmoo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ption name="max_iters"&gt;20&lt;/Optio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ing System Call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type="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Method type=“syscal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/>
          <p:nvPr/>
        </p:nvSpPr>
        <p:spPr>
          <a:xfrm>
            <a:off x="5684760" y="4191120"/>
            <a:ext cx="298764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fault method to launch analysis codes is fork (on Unix) and spawn (on MS Wind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n-demand Problem Reformulation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ed implicit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ed -&gt; Unconstrained with constraint violation penal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ochastic -&gt; Nonstochastic using statistic of r.v.’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NLP -&gt; NLP (fixing integer/binary variable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 -&gt; MINL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-&gt; Single objective (using weighted average objec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 objective constrained -&gt; Multi-objective unconstrained with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constrained -&gt; Multi-objective unconstrained with additional constraint violation 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LP0 -&gt; NLP1 (using finite difference gradient approximations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plicit reformulations also available through XML inpu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9000"/>
          </a:bodyPr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I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1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“UMINLP0”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ConstraintPenalty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enalty value="10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476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tochastic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S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“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tochasticObjectiv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3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application="Sampling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Samples num="1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 stat="mean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Single-Obj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Weight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verview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Line Interface (Coliny) provides a single user interface for many COLIN optimizer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ti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lexible problem/solver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syntax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tructure problem represent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integer linear progra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iabl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 proble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mbeddable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solver paramet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al solutions archived in a cac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formulation to Unconstrain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ulti-Objective Problem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original" type="MO_NLP0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RealVars num="3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ower value="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Upper value="20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RealVar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Objectives num="2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Nonlinear num="2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Leq value="4.0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Nonlinea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Constrain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Command&gt;python example_fn2&lt;/Comman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Driv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Problem id="reformulated" type="MO_UNLP0“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lication="UnconstrainedMultiobjReformulation"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BaseProblem id="original"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Usage Model for Analysis Cod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369880" y="1790640"/>
            <a:ext cx="5029200" cy="2058120"/>
            <a:chOff x="2369880" y="1790640"/>
            <a:chExt cx="5029200" cy="2058120"/>
          </a:xfrm>
        </p:grpSpPr>
        <p:sp>
          <p:nvSpPr>
            <p:cNvPr id="135" name=""/>
            <p:cNvSpPr/>
            <p:nvPr/>
          </p:nvSpPr>
          <p:spPr>
            <a:xfrm>
              <a:off x="2369880" y="2590920"/>
              <a:ext cx="102852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5" idx="5"/>
              <a:endCxn id="137" idx="1"/>
            </p:cNvCxnSpPr>
            <p:nvPr/>
          </p:nvCxnSpPr>
          <p:spPr>
            <a:xfrm>
              <a:off x="3293280" y="2819880"/>
              <a:ext cx="4482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74148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70360" y="3390840"/>
              <a:ext cx="1599840" cy="45792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qu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7" idx="2"/>
              <a:endCxn id="138" idx="2"/>
            </p:cNvCxnSpPr>
            <p:nvPr/>
          </p:nvCxnSpPr>
          <p:spPr>
            <a:xfrm flipH="1" rot="16200000">
              <a:off x="4306320" y="2996640"/>
              <a:ext cx="572040" cy="675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0" name=""/>
            <p:cNvSpPr/>
            <p:nvPr/>
          </p:nvSpPr>
          <p:spPr>
            <a:xfrm>
              <a:off x="6370560" y="2590920"/>
              <a:ext cx="1028520" cy="457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5880" y="1790640"/>
              <a:ext cx="1599840" cy="457560"/>
            </a:xfrm>
            <a:prstGeom prst="flowChartInputOutpu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pp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Respon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1" idx="2"/>
              <a:endCxn id="137" idx="0"/>
            </p:cNvCxnSpPr>
            <p:nvPr/>
          </p:nvCxnSpPr>
          <p:spPr>
            <a:xfrm flipV="1" rot="10800000">
              <a:off x="4255200" y="2018880"/>
              <a:ext cx="560520" cy="571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40" idx="0"/>
              <a:endCxn id="141" idx="5"/>
            </p:cNvCxnSpPr>
            <p:nvPr/>
          </p:nvCxnSpPr>
          <p:spPr>
            <a:xfrm flipV="1" rot="16200000">
              <a:off x="6203520" y="1908720"/>
              <a:ext cx="571320" cy="792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38" idx="5"/>
              <a:endCxn id="140" idx="2"/>
            </p:cNvCxnSpPr>
            <p:nvPr/>
          </p:nvCxnSpPr>
          <p:spPr>
            <a:xfrm flipV="1">
              <a:off x="6207840" y="3047760"/>
              <a:ext cx="677520" cy="572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884480" y="2590920"/>
              <a:ext cx="1371600" cy="457200"/>
            </a:xfrm>
            <a:prstGeom prst="rightArrow">
              <a:avLst>
                <a:gd name="adj1" fmla="val 50000"/>
                <a:gd name="adj2" fmla="val 75000"/>
              </a:avLst>
            </a:prstGeom>
            <a:solidFill>
              <a:srgbClr val="ffcc99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81000"/>
                  <a:tab algn="l" pos="1962000"/>
                  <a:tab algn="l" pos="2943360"/>
                  <a:tab algn="l" pos="3924360"/>
                  <a:tab algn="l" pos="4905360"/>
                  <a:tab algn="l" pos="5886360"/>
                  <a:tab algn="l" pos="6867360"/>
                  <a:tab algn="l" pos="7848720"/>
                  <a:tab algn="l" pos="8829720"/>
                  <a:tab algn="l" pos="9810720"/>
                  <a:tab algn="l" pos="107917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ystem Ca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nalysisCode Fil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al size="3"&gt; 0.1e-1 0.1 0.1&lt;/Real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Domain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Seed&gt;100&lt;/Seed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/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Requests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ques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FunctionValue&gt;13.4&lt;/FunctionValu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/ColinRespons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ecute semantic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execute block grammar is determin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element is a “command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commands take an optional “rank=‘#’” attribute that specifies which process should execute the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mitting “rank” has command executed on all proce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comman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b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andLoo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ch solver registers its id as a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b-elements are parsed by the command processor itsel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imple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plex hybrid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b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Solver id=“c”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.0 2.0 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a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(3: 11.0 12.0 13.0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InitialPoints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FinalPoints cache=“b_ans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b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MergeCaches in1=“a_ans”, in2=“b_ans” out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InitialPoints cache=“tmp” /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c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32960" y="228240"/>
            <a:ext cx="8240760" cy="1089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pothetical ABO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max_iters”, value=“2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olver id=“abo”, type=“abo”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a”, problem=“xxx”, initializer=“best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b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gent solver=“c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master rank=“0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option name=“ddd” /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Options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Solver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bo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Execute&gt;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utstanding Issu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asynchronous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ment of cached evalu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ngle-objective and Pareto ca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ybrid solvers in XM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rious reformulations are in development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of new solver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MHlib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++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EG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rror handling in solvers/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oliny command is built with the Acro software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ttp://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current webpage documents Acro 1.0 / Colin 2.0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and XML functionality are both new features under development for inclusion as part of the upcoming Acro 2.0 / Colin 3.0 release (tentatively December 2008)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Featur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uctured XML syntax for defining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quential specification of multiple problems and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problem reformul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 option/value parameterization of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eneric XML interface for external analysis cod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application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AKOTA vs. Colin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r … why do we need another optimization interface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multi-level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UQ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surrogate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OU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for different problem types and problem transform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nsible support for new analysis code response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2960" indent="-19296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re flexible support for hybrids (in the future…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and Line Syntax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447920"/>
            <a:ext cx="86868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arg1&gt; &lt;arg2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&lt;*.nl&gt; -AMP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sage: coliny [options] &lt;colin-xml-input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 is a COLIN optimizer 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ons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debug-solver-params   Print solver option values before running i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options          Print options for specified solver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help-solvers-xml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 to a file using an XML forma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s, --help-solvers          Print the list of solvers supported by th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ecutable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h, --help                  Display usage informatio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repetitions           The number of times that the solver is rerun (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eck that solver reset() methods work)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use-abort             Force an abort when an error occurs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verbose               Verbose printing during optimization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dditional optimizer options can be specified within AMPL or the COLIN XML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isting Coliny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5392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$ coliny --help-solver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s defined in 'coliny'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******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APPS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pps:app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e Cobyla2 derivative-fre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byla:cobyl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n alias to solver_nam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GradientDescent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gradient descent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RandomMO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random multi-objective optimizer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in:SimpleMILocal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simple mixed-integer local search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XML Input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entralized Parser / Interpret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ong dependence on factory and registry design patt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rammar may be extended at runtim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 is an interpreter for the COLIN XML specific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 a compil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oot elemen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re “paragraphs” (each may appear more than o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ation problem (i.e. interface to function evaluator)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olver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an optimizer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Execut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spcBef>
                <a:spcPts val="400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defines the sequence of actions that Coliny should tak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Problem Specific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al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er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inary variab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strai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lti-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ri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ternal comma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S Method( fork/spawn or syscall 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The Simplest Example 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Problem application="AMPL"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Lfile name="problem.nl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Problem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Solver type="colin:ls"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Execute /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ColinInput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John D. Siirola</cp:lastModifiedBy>
  <dcterms:modified xsi:type="dcterms:W3CDTF">2008-12-04T22:08:49Z</dcterms:modified>
  <cp:revision>21</cp:revision>
  <dc:subject/>
  <dc:title>An Introduction to the COLIN Optimization Interface</dc:title>
</cp:coreProperties>
</file>